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86DB-2724-4633-AE24-D5BD4FAD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664-57CE-4AD5-87BB-8FFD34B5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2629-03B2-489E-A362-E6D3127F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ADC6-0C06-435D-94FB-DE11FDF4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70B6-0A60-433F-A2E9-9DE9B930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302C-9EF2-4662-9AEC-84D746D2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B186-F0D6-4F22-A096-85AFD156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1BE0-1B39-49C4-8525-0149A57A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D3E9-814C-48DA-9267-D0FAA0CF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B75D-0713-4002-A477-2C45052D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8F8-DD9D-4C05-A2F4-79B209A2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14EB-B3AF-42C0-9014-A7C83097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AB6395-0BED-4B94-AE9D-8C4A76448B78}" type="datetime">
              <a:rPr b="0" lang="fi-FI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C3430B-04C8-409D-A202-D3AA8DB795A4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3" descr=""/>
          <p:cNvPicPr/>
          <p:nvPr/>
        </p:nvPicPr>
        <p:blipFill>
          <a:blip r:embed="rId1"/>
          <a:stretch/>
        </p:blipFill>
        <p:spPr>
          <a:xfrm>
            <a:off x="1695600" y="596880"/>
            <a:ext cx="6192720" cy="525456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6199200" y="3951360"/>
            <a:ext cx="14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Yhtee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kuuluvuu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tu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6:52:44Z</dcterms:created>
  <dc:creator>Helena Rajalinna</dc:creator>
  <dc:description/>
  <dc:language>en-US</dc:language>
  <cp:lastModifiedBy>Helena Rajalinna</cp:lastModifiedBy>
  <dcterms:modified xsi:type="dcterms:W3CDTF">2012-10-09T17:08:23Z</dcterms:modified>
  <cp:revision>5</cp:revision>
  <dc:subject/>
  <dc:title>Slide 1</dc:title>
</cp:coreProperties>
</file>